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3CA-3696-42AB-AD26-C6F15C2C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856-E6A5-4BAE-86DD-E5C5DCBD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45B-15F0-4C58-8B75-BE25C0CB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DA8-72B4-4BD8-9993-2CC0CBF9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DFA-1275-4911-8F94-6519CE57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A43-986D-4018-B997-DD9C1114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CA7-BDEC-4BFF-A17A-46F1BE23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60A-5A4C-4404-87D6-6F14437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A92-66D2-43EA-89E3-CF5C541F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5AB-F6F0-424F-82E8-A5F50D59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4BE-D7F9-4D08-BD0E-1CD9164A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E03-B337-4897-8018-E0106D89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73D6-C454-4033-A869-4DDAC3E81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228960" y="18288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’s birthday was in February just like George Washington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coln was good to be our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cool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41960" y="42577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very nice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aved ou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glad he is our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41960" y="42577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06:59Z</dcterms:created>
  <dc:creator>smuser</dc:creator>
  <dc:description/>
  <dc:language>en-US</dc:language>
  <cp:lastModifiedBy>smuser</cp:lastModifiedBy>
  <dcterms:modified xsi:type="dcterms:W3CDTF">2010-02-02T16:54:41Z</dcterms:modified>
  <cp:revision>2</cp:revision>
  <dc:subject/>
  <dc:title>Comparing Presidents</dc:title>
</cp:coreProperties>
</file>